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8BB0-3003-43A9-A6A7-32073EA7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251C-CD31-4117-998F-623AD056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32DC-8E19-4C28-BA26-569A2212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90F9-93D5-4FFA-AD03-A6909D3C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303-4A15-4E5F-AE31-21C6ADCF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238B-D888-47CC-9E11-F04DEEB1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0E6-A63A-425F-A00C-02C45141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677-FB3B-4975-A317-D568948C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820C-5E76-4B0B-9EF4-8FDB29BF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0B9-7348-4933-809E-3ED6E822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2234-A408-4FB6-B7BF-56CAA421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8C6C-D830-4AE1-BA42-90DE271D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5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78DA-E307-4F45-92AB-80F96A974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5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147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 Linux Forum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第１０回東京テクニカルジャンボリ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656400" cy="2206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S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02.11a: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CELFJ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802.11b/g: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CELFJAM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P Key (128bi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-12-23-34-45-56-67-78-89-9a-ab-bc-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012000" y="3213000"/>
            <a:ext cx="283212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5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ご案内（２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LF, Power Management Working Group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会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１０月２５日東京にて開催予定（詳細未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加希望者はワーキンググループチェアに連絡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ンバー企業の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誰でも参加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ンバー企業以外の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ワーキンググループチェアの承認が必要ですが、承認されないケースは無い筈で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予定されているディスカッション内容はジャンボリ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に掲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加無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5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次回のジャンボリ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7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日（金）開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中野サンプラ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原則「偶数月末の金曜日」で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来年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tawa Linux Symposiu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向け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１１回は１０月２７日（金）中野サンプラ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１２回は</a:t>
            </a:r>
            <a:r>
              <a:rPr b="0" i="1" lang="zh-CN" sz="2800" spc="-1" strike="noStrike">
                <a:solidFill>
                  <a:srgbClr val="000000"/>
                </a:solidFill>
                <a:latin typeface="Arial"/>
              </a:rPr>
              <a:t>１２月８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金）中野サンプラ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5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 Linux Forum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回東京テクニカルジャンボリ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2133720"/>
            <a:ext cx="712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於、中野サンプラザ（中野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日（金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00am..10:30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連絡事項・自己紹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30am..11: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ing a new ARM11 reference board “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ZM-ARM11-01”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suj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an/Kyoto Microcompu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30am..12:30  Lunch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:30pm..1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M9 Network and Strag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ard, Tatsu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agak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uffal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5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 Linux Forum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回東京テクニカルジャンボリ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2133720"/>
            <a:ext cx="712944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於、中野サンプラザ（中野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日（金）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OL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30pm..2:00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ssion encor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ing Linux Startup Time Using Software Resum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nd other techniq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roki Kaminaga, S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00pm..2:30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ssion encor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BI (CPU Resource Manag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hru Nojiri (Hitachi) for Midori Sugaya, Waseda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30pm..3:00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ssion encor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 Weight Size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nehiro Ikeda, NEC  Inform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:00pm..3:15  Review CELF demon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:15pm..3:30  Break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:30pm..4:00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Review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S 2006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(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m embedded systems view poin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LS 2006 attende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5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 Linux Forum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回東京テクニカルジャンボリ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2133720"/>
            <a:ext cx="712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於、中野サンプラザ（中野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日（金）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Technical Discu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:00pm..4: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PTL performance on MIPS(comparison of NPTL and L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Hiroki Kumagai, Toshib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:45pm..5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link on MIPS (Short not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 may be mo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5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itrust Reminder</a:t>
            </a:r>
            <a:br>
              <a:rPr sz="40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正競争防止法等に対する配慮のお願い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embers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MUST NOT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discuss / 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下記のような話題は避けてくださ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The business strategy of any 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各社の事業戦略に関する話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Any attempts to restrict or hinder the growth or use of another industry standardization init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の標準制定活動の発展または利用に対する制限や妨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Actual, projected or future prices, or sales terms of “Produc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「製品」に関する現行、計画された、あるいは将来の価格や販売に関する表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Marketing strategy for “Produc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「製品」のマーケティング戦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Production capacity for “Produc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「製品」の生産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Allocation of customers or customer categories for “Produc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「製品」の顧客毎の割り当て、または顧客カテゴリ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Release dates of “Produc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「製品」の公表時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59280" y="6381720"/>
            <a:ext cx="58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99ff"/>
                </a:solidFill>
                <a:latin typeface="Arial"/>
              </a:rPr>
              <a:t>注：和訳は英文の理解を助けるために便宜的に入れました。正式には英文を参照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5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R Reminder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的財産権に関するお願い</a:t>
            </a:r>
            <a:br>
              <a:rPr sz="4000"/>
            </a:b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知的財産権に対する配慮をお願いし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Member submissions must be in writing, and under an open source licen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 Linux Foru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提供する技術はオープンソースライセンスに拠る事と文書化されている必要が有り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Members are bound by the Membership agreement to disclose to the forum any patents for which they have actual knowledge for a contributed specification or implem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仕様やインプリメンテーションを持ち寄る際は会則の規定に拠り、特許関係の情報は開示してください。これは持ち寄った方の知る範囲で結構で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9280" y="6381720"/>
            <a:ext cx="58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99ff"/>
                </a:solidFill>
                <a:latin typeface="Arial"/>
              </a:rPr>
              <a:t>注：和訳は英文の理解を助けるために便宜的に入れました。正式には英文を参照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5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約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３つの「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」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No Commi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No Obli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No Confid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オープンソースとして提供可能な技術に関する自由なディスカッションを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5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eless 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a: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ELFJ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b/g: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ELFJAM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P Key (128bit)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1-12-23-34-45-56-67-78-89-9a-ab-bc-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5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ご案内（１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第２回 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Arial"/>
              </a:rPr>
              <a:t>OSDL Japan Linux Sympo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９月１１日（月）東京・浜松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現在参加受付中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Arial"/>
              </a:rPr>
              <a:t>早いタイミングで満員札止めが予想され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Arial"/>
              </a:rPr>
              <a:t>今すぐに参加登録をされることを強くお奨めし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Black"/>
              </a:rPr>
              <a:t>http://www.osdl.jp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</a:rPr>
              <a:t>ファイルシステム、</a:t>
            </a:r>
            <a:r>
              <a:rPr b="0" lang="ja-JP" sz="2800" spc="-1" strike="noStrike">
                <a:solidFill>
                  <a:srgbClr val="000000"/>
                </a:solidFill>
                <a:latin typeface="Arial Black"/>
              </a:rPr>
              <a:t>GCC</a:t>
            </a:r>
            <a:r>
              <a:rPr b="0" lang="ja-JP" sz="2800" spc="-1" strike="noStrike">
                <a:solidFill>
                  <a:srgbClr val="000000"/>
                </a:solidFill>
                <a:latin typeface="Arial Black"/>
              </a:rPr>
              <a:t>・・・と、組込み領域からも気になる話題で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</a:rPr>
              <a:t>参加無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5:01:35Z</dcterms:created>
  <dc:creator>Satoru Ueda</dc:creator>
  <dc:description/>
  <dc:language>en-US</dc:language>
  <cp:lastModifiedBy>Satoru Ueda</cp:lastModifiedBy>
  <dcterms:modified xsi:type="dcterms:W3CDTF">2006-08-24T04:25:55Z</dcterms:modified>
  <cp:revision>75</cp:revision>
  <dc:subject/>
  <dc:title>スライド 1</dc:title>
</cp:coreProperties>
</file>